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4354-0FDB-43A7-93A8-9E86CC9B34F5}" type="slidenum">
              <a:rPr b="1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F1B4-1B2E-46B9-B0E7-0979BCDB662B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3EF1-2B81-47E1-A338-CB64FDF63773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5A1B-7FEB-436E-A05E-AC6C16DE2496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705B-9DBC-4621-AD50-FF5DEEA1A788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E9D2-BF8A-452E-8693-4F0B672AFEE5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FFD2-B5CB-49BE-A79A-BED1E2150BEB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2A64-5BD9-4179-835C-F60B8E487B2B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E46C-FB96-4ABB-AAEE-7AECCF395F22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C2EF-8A81-480E-A69E-AAAF3C2CD917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B258-1472-477B-99AF-86C4C5E11535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35B7-05E8-4840-B7B4-D2475A559573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FD02-2317-421B-A5DF-8B4BEC5DF832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BF9C-D753-4871-A69B-879E42DF45BF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59E8-108A-4706-9998-72DDC46AD87D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DEC7-9954-4788-8885-FC498BC44CD1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EA02-A383-4AD7-BBF5-64EF7351052C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B29C-E2E9-4608-991F-40773E461F99}" type="slidenum">
              <a:rPr b="1" lang="zh-TW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62E-0ACF-4171-B755-E1F0BD60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767-7BB0-4F9C-A233-1EA50EDC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2D6-87C1-4D1F-B040-707378C7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001-95BC-4B31-AFCB-4DF5CABA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08A0-6B82-4410-95DC-AD612C70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BC09-B256-446A-BB89-39E00661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B4F6-A205-44AA-AA14-EADB1D5F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74DE-75A8-495D-B8CB-D040A22D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0BFA-0B05-47EB-8794-BF0285D3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4FA4-0F2A-4C54-BB21-3BE48683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F697-E874-4ADC-AE0F-ABCBB653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272-5DBA-4BA4-8AAE-C5201A3D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6416-4721-4F33-ABB9-EAA95345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B4D5-FF5B-4A0A-A133-A9E5014E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963D-F01E-4818-BAFB-CF4AE402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AAC6-FCB4-4DFF-9B6C-D8019ADB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1814-2F7C-470A-9801-BEF4B028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9BC-4F4C-4D94-9C12-1B8837AB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538-DF44-4A2C-9453-EDE75A01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D7E-266D-4139-B9D1-F2E6B481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FF31-6A62-486E-AAB4-9AF8BFDC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487-5AB8-4E7A-8AE6-2BF5E842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4EC-F770-4FDF-A120-A3155E6A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8E0C-A462-48EA-BAD0-DA222BFD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57F5-AC21-4DDC-8B9C-A4A62A8CE7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8CD3-9721-41F3-88AE-DD246581ECD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101&#23416;&#24180;&#24230;&#26032;&#21271;&#24066;&#25919;&#24220;&#25945;&#32946;&#23616;&#23565;&#21508;&#32026;&#23416;&#26657;&#37325;&#40670;&#35222;.doc" TargetMode="External"/><Relationship Id="rId2" Type="http://schemas.openxmlformats.org/officeDocument/2006/relationships/hyperlink" Target="file:///101&#23416;&#24180;&#24230;&#26032;&#21271;&#24066;&#25919;&#24220;&#25945;&#32946;&#23616;&#23565;&#21508;&#32026;&#23416;&#26657;&#37325;&#40670;&#35222;.doc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01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學年度第</a:t>
            </a:r>
            <a:r>
              <a:rPr b="1" lang="en-US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學期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期初校務會議 教務處報告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標楷體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ffff99"/>
                </a:solidFill>
                <a:latin typeface="標楷體"/>
                <a:ea typeface="標楷體"/>
              </a:rPr>
              <a:t>學年度新北市政府教育局對各級學校</a:t>
            </a:r>
            <a:r>
              <a:rPr b="0" lang="zh-TW" sz="40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  <a:hlinkClick r:id="rId1"/>
              </a:rPr>
              <a:t>重點視導項目</a:t>
            </a:r>
            <a:r>
              <a:rPr b="0" lang="zh-TW" sz="4000" spc="-1" strike="noStrike" u="sng">
                <a:solidFill>
                  <a:srgbClr val="ffff99"/>
                </a:solidFill>
                <a:uFillTx/>
                <a:latin typeface="標楷體"/>
                <a:ea typeface="標楷體"/>
                <a:hlinkClick r:id="rId2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詳細內容已寄給大家，詳如說明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請全體夥伴配合辦理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教學組業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第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8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節課輔於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上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國中及高一、二夜自習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攜手計畫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教學組業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國中部攜手計劃持續進行，請導師協助推薦同學參加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自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0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年度開始，參加攜手計劃同學需參加電腦線上施測，以了解學生起點能力和學習成長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註冊組業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011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註冊單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8/3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（二）開學日發放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經濟有困難的同學可至註冊組說明，可以分期繳或延後繳費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獎學金：開學後陸續有各項獎助學金可申請，部分獎項需導師協助，屆時請導師協助篩選與推薦。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實研組業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加退選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9/5-9/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前共同選修課依原選課結果上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重修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9/3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申請，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上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自學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 9/3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申請，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含夜自習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高三夜自習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:9/1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試務組業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高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科複習考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6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只考國英數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高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術學程第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次模考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6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~9/7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高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專門學程第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次模考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/10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~9/11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011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國高中模考範圍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&amp;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期：已公告於學校網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設備組</a:t>
            </a:r>
            <a:r>
              <a:rPr b="1" lang="en-US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--</a:t>
            </a: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教科書換發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高中教師用書已請業務發送完，國中教師用書於</a:t>
            </a:r>
            <a:r>
              <a:rPr b="1" lang="en-US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8/29</a:t>
            </a: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發送，有任何問題請與設備組連絡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學生教科書如有缺損等問題，請務必於開學當日提出，設備組將盡可能於</a:t>
            </a:r>
            <a:r>
              <a:rPr b="1" lang="en-US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3</a:t>
            </a: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個工作天內將書補齊，以方便學生使用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學生教科書請盡量於領取當日內完成發放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ff"/>
                </a:solidFill>
                <a:latin typeface="標楷體"/>
                <a:ea typeface="標楷體"/>
              </a:rPr>
              <a:t>謝謝聆聽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ffffff"/>
                </a:solidFill>
                <a:latin typeface="標楷體"/>
                <a:ea typeface="標楷體"/>
              </a:rPr>
              <a:t>敬請指教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教務處活動行事曆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請參閱學校首頁教學組網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請參閱學校行事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教務處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標楷體"/>
              </a:rPr>
              <a:t>101</a:t>
            </a: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學年度工作重點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執行高中優質化輔助計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執行高中旗鑑計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教師專業發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課程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特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發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提升學生學習成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發展高中學程特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標楷體"/>
              </a:rPr>
              <a:t>12</a:t>
            </a:r>
            <a:r>
              <a:rPr b="1" lang="zh-TW" sz="3200" spc="-1" strike="noStrike">
                <a:solidFill>
                  <a:srgbClr val="ffffff"/>
                </a:solidFill>
                <a:latin typeface="Verdana"/>
                <a:ea typeface="標楷體"/>
              </a:rPr>
              <a:t>國教推動準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99"/>
                </a:solidFill>
                <a:latin typeface="標楷體"/>
                <a:ea typeface="標楷體"/>
              </a:rPr>
              <a:t>通過</a:t>
            </a:r>
            <a:r>
              <a:rPr b="1" lang="en-US" sz="4000" spc="-1" strike="noStrike">
                <a:solidFill>
                  <a:srgbClr val="ffff99"/>
                </a:solidFill>
                <a:latin typeface="標楷體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ffff99"/>
                </a:solidFill>
                <a:latin typeface="標楷體"/>
                <a:ea typeface="標楷體"/>
              </a:rPr>
              <a:t>學年度高中優質輔助方案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補助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35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萬元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重點仍聚焦在「提升學生學習成效」、「教師專業成長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學後即開始執行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，請老師配合執行計畫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教師專業社群持續推動，歡迎老師自主提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計畫將掛於學校首頁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通過</a:t>
            </a:r>
            <a:r>
              <a:rPr b="1" lang="en-US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101</a:t>
            </a: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年度旗艦計劃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補助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505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萬元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重點聚焦在「提升學生學習成效」、「教師專業成長」、「建立學校特色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開學後即開始執行，請老師配合執行計畫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計畫將掛於學校首頁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  <a:ea typeface="標楷體"/>
              </a:rPr>
              <a:t>12</a:t>
            </a: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年國教國中發展願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生適性發展、五育均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校特色發展、品質提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教師專業教學、多元評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家長多元參與、優質親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Arial"/>
                <a:ea typeface="標楷體"/>
              </a:rPr>
              <a:t>優質高中認證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今年可認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四年認證一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一等及二等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特優及優等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才可認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四年評鑑一次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四年資料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請全體同仁隨時準備好資料</a:t>
            </a:r>
            <a:r>
              <a:rPr b="1" lang="zh-TW" sz="32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資料夾已分給大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教學組</a:t>
            </a:r>
            <a:r>
              <a:rPr b="1" lang="en-US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-</a:t>
            </a: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高中</a:t>
            </a:r>
            <a:r>
              <a:rPr b="1" lang="en-US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99</a:t>
            </a: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課綱全面上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高中依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9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課綱開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教學組</a:t>
            </a:r>
            <a:r>
              <a:rPr b="1" lang="en-US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—</a:t>
            </a:r>
            <a:r>
              <a:rPr b="1" lang="en-US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97</a:t>
            </a:r>
            <a:r>
              <a:rPr b="1" lang="zh-TW" sz="4400" spc="-1" strike="noStrike">
                <a:solidFill>
                  <a:srgbClr val="ffff99"/>
                </a:solidFill>
                <a:latin typeface="標楷體"/>
                <a:ea typeface="標楷體"/>
              </a:rPr>
              <a:t>課綱微調持續上路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國中部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97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課綱微調在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10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學年度上路，請各教師務必持續配合課綱調整部份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(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詳見學校首頁教學組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)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08:37:48Z</dcterms:created>
  <dc:creator>Administrator</dc:creator>
  <dc:description/>
  <dc:language>en-US</dc:language>
  <cp:lastModifiedBy>ad7374</cp:lastModifiedBy>
  <dcterms:modified xsi:type="dcterms:W3CDTF">2012-08-29T05:10:06Z</dcterms:modified>
  <cp:revision>106</cp:revision>
  <dc:subject/>
  <dc:title>96學年度第1學期期末教務會議</dc:title>
</cp:coreProperties>
</file>